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2961-B647-4B46-8653-F434E52C4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C8CC-654A-4EEF-9FD3-97F0B9BB71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FEBF-FD4B-4FC0-821B-CB8491AD8C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C582-1591-4830-BADA-6A248BACF3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9DC0-7207-4949-BC50-D042634667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D0DE-0E67-4E9A-8505-59CE54AE63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D9BB-B2AF-4929-B7D0-332D0F7089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A94-3416-476E-AFB1-0E232888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6EB-BE01-4824-9A91-E83BA3FF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4AF-F0B8-40E4-BA28-102B7E1F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927-2404-4CC4-BF16-3B17F036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0C8-79B2-4257-93DD-AF9F02BC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ABE-6C2E-4414-970D-3BECEDDB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F90-0403-479E-8343-B9A6CDAF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1A4-A92C-403A-986E-C9885D0C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8D7-1FEB-42EE-9053-C2532BAE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430-49EA-44C5-A553-DBB7F960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27C-7426-458C-8395-2805CD74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663-D89C-4AE7-A809-9E456C6D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CFF5-4A32-42F8-A50C-4F48C0ED58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RAPHING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dinate- values on the______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bscissa- values on the ______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pendent variable- ______variable, the one we measure, plotted on the__________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dependent variable- _________ variable, the one we control or vary, plotted on the _______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rs. Watson’s Eight Commandments of Graph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 Always use ______for the entire grap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. Use an appropriate _____ for each axis. (It can be different on the x and y but must have equal ____________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. Label each axis with variable _____ and _______. (ex. Time (s) 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. Include a _____ in the form: “The relationship betwe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dependen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variabl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ndependent variabl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’’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5. _______ all plotted poin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6. If more than one set of data is on the graph, use a ______ or _______ to differentiate the data ( you can use dashed or solid lines,or circles, squares,and triangles on your plotted points,or different color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pencil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7. Be neat!!! Use _______ and make graphs large - never more than __ to a pag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. Include your _____ and _____ on each graph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dditional Informa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ways draw “best - fit” lines or curves for your data unless you are told to “connect the dots”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y to determine the type of relationship you are graphing so you know whether it should be a straight or curved lin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23:17:26Z</dcterms:created>
  <dc:creator>School District 17</dc:creator>
  <dc:description/>
  <dc:language>en-US</dc:language>
  <cp:lastModifiedBy>Administrator</cp:lastModifiedBy>
  <dcterms:modified xsi:type="dcterms:W3CDTF">2010-09-04T19:10:09Z</dcterms:modified>
  <cp:revision>3</cp:revision>
  <dc:subject/>
  <dc:title>GRAPHING</dc:title>
</cp:coreProperties>
</file>